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90A-D6F6-4683-99C7-29A59D56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7FBD-1D68-45FF-B69E-82AC40F6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9B42-6EC6-4B17-B4A3-4481D8B8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62E-CA4C-4FD5-A74E-2DC6FAF3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4B9-E22C-4204-A748-9F95B4C8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796E-10E1-4B6F-98A2-9242EB05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AAE4-FFE3-4E93-AAFE-98A534DD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1B12-38B7-4068-8467-D2E49307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6C3-57A6-445F-8578-AA3CE21D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3A8-026F-4577-80CF-AB2BF9FE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0606-A80A-434C-909E-AFE8F8F7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F69-30E9-4CA9-888E-CB788FC5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A645-0AE4-4923-8DF0-15CFF60CB3A6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76320"/>
            <a:ext cx="8788320" cy="6781320"/>
            <a:chOff x="177840" y="76320"/>
            <a:chExt cx="8788320" cy="6781320"/>
          </a:xfrm>
        </p:grpSpPr>
        <p:grpSp>
          <p:nvGrpSpPr>
            <p:cNvPr id="6" name=""/>
            <p:cNvGrpSpPr/>
            <p:nvPr/>
          </p:nvGrpSpPr>
          <p:grpSpPr>
            <a:xfrm>
              <a:off x="177840" y="76320"/>
              <a:ext cx="8788320" cy="6780240"/>
              <a:chOff x="177840" y="76320"/>
              <a:chExt cx="8788320" cy="6780240"/>
            </a:xfrm>
          </p:grpSpPr>
          <p:sp>
            <p:nvSpPr>
              <p:cNvPr id="7" name=""/>
              <p:cNvSpPr/>
              <p:nvPr/>
            </p:nvSpPr>
            <p:spPr>
              <a:xfrm>
                <a:off x="177840" y="177840"/>
                <a:ext cx="8788320" cy="6502320"/>
              </a:xfrm>
              <a:prstGeom prst="rect">
                <a:avLst/>
              </a:prstGeom>
              <a:noFill/>
              <a:ln w="5076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791320" y="6400800"/>
                <a:ext cx="3047760" cy="45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990000"/>
                  </a:solidFill>
                  <a:latin typeface="Times New Roman"/>
                </a:endParaRPr>
              </a:p>
            </p:txBody>
          </p:sp>
          <p:pic>
            <p:nvPicPr>
              <p:cNvPr id="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43000" y="76320"/>
                <a:ext cx="2705040" cy="60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" name=""/>
            <p:cNvSpPr/>
            <p:nvPr/>
          </p:nvSpPr>
          <p:spPr>
            <a:xfrm>
              <a:off x="5851080" y="6399360"/>
              <a:ext cx="29631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800000"/>
                  </a:solidFill>
                  <a:latin typeface="Times New Roman"/>
                </a:rPr>
                <a:t>www.cariboulake.com</a:t>
              </a:r>
              <a:endParaRPr b="0" lang="en-US" sz="2400" spc="-1" strike="noStrike">
                <a:solidFill>
                  <a:srgbClr val="99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2666880" y="617220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00"/>
                </a:solidFill>
                <a:latin typeface="Times New Roman"/>
              </a:rPr>
              <a:t>Safe AND Recoverable Ingres Database Backup 1999</a:t>
            </a:r>
            <a:endParaRPr b="0" lang="en-US" sz="1200" spc="-1" strike="noStrike">
              <a:solidFill>
                <a:srgbClr val="99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Safe AND Recoverable Ingres Database Backup 1999</a:t>
            </a:r>
            <a:br>
              <a:rPr sz="4400"/>
            </a:br>
            <a:br>
              <a:rPr sz="4400"/>
            </a:b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opyright (C) 1999 by Caribou Lake Software, Inc.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ichael A. Leo, </a:t>
            </a:r>
            <a:br>
              <a:rPr sz="2400"/>
            </a:b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mleo@cariboulake.com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If Recovery Fails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ecovery ALWAYS fails if you don’t have a backup. 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xperience teaches us that un-tested recovery procedures usually fail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Lost business due to downtime can NEVER be recovered.  This lost business compounds as much as gained business does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If Recovery Fails?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On-Track is a great company, but …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t’s worse than visiting the dentist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osts are HIGH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Failure to recover is common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osts are high even if they CAN’T recover your data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sts of Failed Recovery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re-installing the O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re-configuring the OS to your need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re-installing Ingre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re-configuring Ingres (Ingres/Net, Knowledge Manager, Object Manager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re-installing Windows4GL or OpenROAD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sts of Failed Recovery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re-installing other applications and tools, such as compilers, code environments, etc.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re-entering data, or re-entering code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ost of unrecoverable data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e cost of lost business (this will be greater than with backups, as above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e cost of short term rental of hardware (in the event of disaster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Can Go Wrong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isk failure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Database data disk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Log file disk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gres software disk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System Disk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User mishap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Accidental execution of destroydb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Malformed Cartesian-product delete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Application gone awry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System manager deletes everything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Can Go Wrong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Ingres bugs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Log file becomes corrupt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Table structure becomes corrupt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symbol.tbl is truncated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Complete loss of system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flood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fire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smoke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tornado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hurricane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air-conditioner failure (overheat/flood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8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power spikes/lightning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ifferent Shop Scenario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tatic Databas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9-5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24x7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Backup vs. Archive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Different!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Don’t mix the two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minology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OS backups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dump, ufsdump, cpio, tar, Legato, Amanda, etc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ONLY SAFE IF INGRES IS SHUTDOWN COMPLETELY!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Unloaddb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generates scripts to dump a database to flat files.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Coolest utility in Ingres.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minology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Checkpoint</a:t>
            </a:r>
            <a:r>
              <a:rPr b="0" lang="en-US" sz="2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ckpdb command. 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TOTALLY DIFFERENT FROM THE ORACLE DEFINITION OF CHECKPOINT! 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“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snapshot in time” of a database. 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can be taken when users are still accessing the database (read and write). 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Times New Roman"/>
              </a:rPr>
              <a:t>Rollforward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ct of recovering a database to a set point in time.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quite different than the Oracle definition of rollforward.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ollforwarddb command achieves two purposes. 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What’s Covered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acking up an entire database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Recovering an entire database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Disaster Recovery (complete loss of system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inimizing data los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Speeding up checkpoint and recovery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What to do when things go wrong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minology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Consistency points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laced in the Ingres transaction log to “remember” when Ingres data buffers and the Ingres database files were last, for certain, in sync.  These are similar to Oracle checkpoints.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The Ingres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transaction log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ensures transactions are either committed or rolled back at any point in time. 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primary goal is to keep the database logically consistent, despite client failure, DBMS failure, or OS failure.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If it fails, recovery to the last committed transaction may not be possible.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Terminology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Journals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written by the Ingres archiver process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allow up-to-the-minute recovery in the event of a database storage device failure.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contain before and/or after images of changes to the database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can be used to audit changes made to the database.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The Ingres </a:t>
            </a:r>
            <a:r>
              <a:rPr b="1" lang="en-US" sz="2000" spc="-1" strike="noStrike">
                <a:solidFill>
                  <a:srgbClr val="990000"/>
                </a:solidFill>
                <a:latin typeface="Times New Roman"/>
              </a:rPr>
              <a:t>archiver</a:t>
            </a: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reads the transaction log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erases transactions that have been completely flushed to the database storage device(s). 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Times New Roman"/>
              </a:rPr>
              <a:t>might copy the transaction information to the journal files</a:t>
            </a:r>
            <a:endParaRPr b="0" lang="en-US" sz="20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Up-To-The-Second Recovery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Ingres can recover to the last committed transaction, if and only if: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he transaction log is not lost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Journalling is enabled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 valid checkpoint exist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Only one device fail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he Ingres software configuration can be recovered exactly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Operating System Backup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Only work if Ingres is completely shutdown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ost simple solution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No up-to-the-minute recovery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Beware the backup/RAID vendors claim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Using “unloaddb” to Backup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Only work if database is not written to during the entire unload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an be parallelized for speed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Allows single table recovery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Allows recovery into differently names tables and/or database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No up-to-the-minute recovery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Using the Ingres Checkpoint and Journalling System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an be done while users are accessing the database, with caveat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an be parallelized for speed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ingle table recovery supported/messy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ust recover into the same database nam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Only up-to-the-minute recovery solution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Using the Ingres Checkpoint and Journalling System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kpdb” command backs up databases, controls journalling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ollforwarddb” command recovers database and applies journalled record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infodb” command shows status of the checkpoint and journalling system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What Happens During a Checkpoint?</a:t>
            </a:r>
            <a:endParaRPr b="0" lang="en-US" sz="36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A checkpoint lock is taken on the database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revents two checkpoints at the same time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If this is an off-line checkpoint: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exclusive database lock is taken on the database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heckpoint waits until the lock is granted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CP is signaled to drain all committed transactions from the log file to the journal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What Happens During a Checkpoint?</a:t>
            </a:r>
            <a:br>
              <a:rPr sz="36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If this is an on-line checkpoint: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logging system is signaled to stall any new transaction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ctive transactions are allowed to continue, commit or rollback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heckpoint will wait (possibly forever) until all active transactions are complete.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able control locks are taken to prevent DDL, etc.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What Happens During a Checkpoint?</a:t>
            </a:r>
            <a:br>
              <a:rPr sz="36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If this database has never been checkpointed: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I_CHECKPOINT directory created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I_JOURNAL directory created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I_DUMP directory created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On a VMS cluster installation, journal files from each node are merged into one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What’s Not Covered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heckpointing/Recovering individual table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Fault toleranc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Replication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What Happens During a Checkpoint?</a:t>
            </a:r>
            <a:br>
              <a:rPr sz="36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f this is an on-line checkpoint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 "beginning of checkpoint" mark is entered in the transaction log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a consistency point is taken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he ACP is awakened to drain all committed transactions in the log file (and to the journals, if journalling is enabled). 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he logging system is then signaled to allow new transactions to proceed normally. 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What Happens During a Checkpoint?</a:t>
            </a:r>
            <a:br>
              <a:rPr sz="36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If this is an on-line checkpoint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he ACP is asked to start copying all before-images of any transactions that occurred during the backup to a file in the dump area.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he ACP starts writing any journalled transactions logged before the "beginning of checkpoint" mark to the old journal file. 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he ACP opens a new journal file, prepared to receive any journalled transactions logged after the "beginning of checkpoint" mark.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What Happens During a Checkpoint?</a:t>
            </a:r>
            <a:br>
              <a:rPr sz="36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Control is passed to ckptmpl.def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begin phase is called first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work phase is called for each location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The end phase is called after every location is successfully backed up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ngres doesn’t care how you back up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Ingres prevents aliased locations from being backed up twice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Times New Roman"/>
              </a:rPr>
              <a:t>Any phase the returns a non-zero “exit code” caused the checkpoint to abort</a:t>
            </a:r>
            <a:endParaRPr b="0" lang="en-US" sz="2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What Happens During a Checkpoint?</a:t>
            </a:r>
            <a:br>
              <a:rPr sz="36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Sample ckptmpl.def (Ingres 6.4):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urier New"/>
              </a:rPr>
              <a:t>BST:    /bin/echo beginning checkpoint to tape %C of %N locations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urier New"/>
              </a:rPr>
              <a:t>BSD:    /bin/echo beginning checkpoint to disk %C of %N locations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urier New"/>
              </a:rPr>
              <a:t>BRT:    /bin/echo beginning restore of tape %C of %N locations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urier New"/>
              </a:rPr>
              <a:t>BRD:    /bin/echo beginning restore of disk %C of %N locations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urier New"/>
              </a:rPr>
              <a:t>WST:    /bin/echo mount tape %N and press return; read foo; cd %D; /bin/tar cbf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urier New"/>
              </a:rPr>
              <a:t>20 %C *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urier New"/>
              </a:rPr>
              <a:t>WSD:    cd %D; /bin/tar cf %A *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urier New"/>
              </a:rPr>
              <a:t>WRT:    /bin/echo mount tape %N and press return; read foo; cd %D; /bin/tar xf %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urier New"/>
              </a:rPr>
              <a:t>WRD:    cd %D; /bin/tar xf %A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urier New"/>
              </a:rPr>
              <a:t>EET:    /bin/echo done with tape operations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urier New"/>
              </a:rPr>
              <a:t>EED:    /bin/true</a:t>
            </a:r>
            <a:endParaRPr b="0" lang="en-US" sz="14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What Happens During a Checkpoint?</a:t>
            </a:r>
            <a:br>
              <a:rPr sz="36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If this is an on-line checkpoint: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n "end of checkpoint" marker is entered in the transaction log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e checkpoint waits for the ACP to finish writing journal file and dump file entrie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When this is complete, the old journal file(s) and the dump file are closed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What Happens During a Checkpoint?</a:t>
            </a:r>
            <a:br>
              <a:rPr sz="36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If the -d flag is used, old journal, checkpoint, and dump files are erased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e configuration (aaaaaaaa.cnf) file i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updated with the new checkpoint information.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opied to the II_DUMP area, in case the database disk should fail.  Multiple copies are made there, some under disguised names.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What Happens During a Checkpoint?</a:t>
            </a:r>
            <a:br>
              <a:rPr sz="36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All checkpoint locks are released.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If this is an on-line checkpoint, maintenance and “create/destroy” SQL statements can now proceed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If this is an off-line checkpoint, the exclusive database lock is released allowing users to access the database once again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ow Does Journalling Work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Journal records are "mutations" that occur against a given baseline (a checkpoint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e Archiver copies transactions marked as journalled to the journal file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Journal files can grow large - watch out!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If you run out of journal file space, take a checkpoint as soon as possible!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ow Recovery Work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Uses the rollforwarddb command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equires EXCLUSIVE access to the database during the entire recovery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ollforwarddb recovers a checkpoint, and then optionally rolls forwards journal record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an fail, diagnose with -v, #x, and errlog.log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ow Recovery Works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rollforwarddb takes an exclusive lock on the database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e configuration file (aaaaaaaa.cnf) in the default database area is renamed to aaaaaaaa.rfc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All files in the data directories are deleted, except for aaaaaaaa.rfc.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Why Do Backup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o protect system data.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Re-installing/Re-entering takes too long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e operations guide says to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You just gotta!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ow Recovery Works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Normally, Ingres assumes the last valid checkpoint is to be recovered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e #c flag can influence which checkpoint is recovered.  For example: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$ rollforward #c13 mydb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ow Recovery Works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control is passed to ckptmpl.def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Pretty much an inverse of when ckpdb passes control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ustomizations REQUIRE testing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If recovering from an on-line checkpoint, the before images stored in the dump files are applied to the database to "fix up" any inconsistencies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How Recovery Works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If the +j flag is indicated on the rollforwarddb command line, journals taken after the recovered checkpoint are applied, bring the database "up to the moment"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The aaaaaaaa.rfc file is renamed to aaaaaaaa.cnf and the exclusive database lock is released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en Recovering … Remember: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Before recovering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alm down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Take a complete OS backup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Call CA Technical Support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Relax because you tested this and are confident it will work.  (You did test it, didn’t you?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Also ...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If you are recovering from a disaster: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Make sure to recover first from OS backup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Make sure the database is extended as it was during backup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Times New Roman"/>
              </a:rPr>
              <a:t>Make sure all the users exist in the Ingres authorization system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’s Stored by ckpdb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All the data file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A useless aaaaaaaa.cnf fil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to Store AFTER a ckpdb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If the checkpoint was to disk, the checkpoint directory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e journal and dump directories (after the checkpoint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e aaaaaaaa.cnf file from the default database directory (after the checkpoint)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Output of “infodb &lt;dbname&gt;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The Ingres software tre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pecial Recovery Issues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Recovery is not instantaneous. Practice your recovery procedure to be sure you are ready if a recovery opportunity arises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Actually test your recovery abilities. Make sure the recovery time is acceptable to your customer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pecial Recovery Issues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Regularly play out the scenario where recovery is necessary using a brand new machine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Be sure to have a disaster recovery plan written down and stored in several places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Backup Checklist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Are your backup and recovery procedures and methods documented and published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Have you tested BOTH the backup and recovery procedures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Have you reflected all changes to your procedures in writing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Have the changes been tested?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Times New Roman"/>
              </a:rPr>
              <a:t>REALLY, Why Do Backup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protect system data. 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-installing/Re-entering takes too long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operations guide says to.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just gotta!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aves Money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ustomer Requires Backup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Backup Checklist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Are all your operators trained to properly execute the backup procedure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Are there enough supplies (tapes, etc.) to perform the backup?  How are these supplies replenished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Are the backup devices maintained on a regular schedule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Backup Checklist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an someone besides you perform the recovery procedure? Have you cross-trained a colleague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Are your dump, journal and aaaaaaaa.cnf files backed up immediately after a checkpoint is taken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2640" indent="-332640" algn="just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Do you have enough journal space? Dump file space? What happens if you run out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Backup Checklist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Can you recover from total disk failure? Where are all the necessary tapes and procedures? Have you rehearsed this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isaster Recovery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Have you developed and published a disaster recovery plan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Have you staged a fake disaster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35880" indent="-335880" algn="just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Is your off-site recovery site ready to receive in the event of a disaster? Does this machine have the correct OS? Will you need to deal with a different disk configuration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Disaster Recovery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Do you periodically move backup tapes off-site? Often enough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Are the recovery procedures documented and also copied off-site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Does anyone besides you know all this?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Follow the checklist, no matter how tediou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Delegate, but contro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Buy good tape drives and good media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Plan to fail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Some Hidden Issues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ost sites don’t figure this in budgets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ost sites don’t take it seriously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ost sites have lost data at one time</a:t>
            </a:r>
            <a:endParaRPr b="0" lang="en-US" sz="32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Does Backup Cost?</a:t>
            </a:r>
            <a:endParaRPr b="0" lang="en-US" sz="44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ackup and recovery procedure development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backup and recovery testing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disaster recovery procedure development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disaster recovery testing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procedure maintenance, including periodic re-testing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Does Backup Cost?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operator training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daily operations labor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capital investment (tape drive, optical jukebox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storage costs (on-site storage space, off-site storage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recovery site rental (cost of paying a vendor to provide an off-site system for disasters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What Does Backup Cost?</a:t>
            </a:r>
            <a:br>
              <a:rPr sz="4400"/>
            </a:b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(cont)</a:t>
            </a:r>
            <a:endParaRPr b="0" lang="en-US" sz="1800" spc="-1" strike="noStrike">
              <a:solidFill>
                <a:srgbClr val="8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supplies (tapes, tape drive cleaning kits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maintenance (tape drive, optical jukebox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application impact (required down-time, performance issues, re-design)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e cost of actually doing a real, live, recovery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99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the cost of lost business you might have accomplished if you didn’t do backups</a:t>
            </a:r>
            <a:endParaRPr b="0" lang="en-US" sz="2800" spc="-1" strike="noStrike">
              <a:solidFill>
                <a:srgbClr val="8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15T14:20:19Z</dcterms:created>
  <dc:creator>Michael Leo</dc:creator>
  <dc:description/>
  <dc:language>en-US</dc:language>
  <cp:lastModifiedBy>Michael Leo</cp:lastModifiedBy>
  <dcterms:modified xsi:type="dcterms:W3CDTF">1999-06-16T18:02:27Z</dcterms:modified>
  <cp:revision>4</cp:revision>
  <dc:subject/>
  <dc:title>Safe AND Recoverable Ingres Database Backup  Copyright (C) 1999 by Caribou Lake Software, Inc. Michael A. Leo,  mleo@cariboulake.com</dc:title>
</cp:coreProperties>
</file>